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DD9-C651-4A39-982D-890EF596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834-FB8D-4FE4-99B2-05489725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AB0-E340-4E24-B3B7-F506BCAD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0C8-2EB6-4AB5-B35E-50E834CA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D79-DB5C-44DB-A8AB-801B51D0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4F3-775D-47EC-B522-513E5B4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679-BEDC-4B1C-94D5-B4AA0D6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80F-7B81-4ACD-AB5B-AEE3760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FC7-388D-4EC6-86F4-D23261E8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B6C-B759-44ED-8268-5A3AF59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35A-55F4-4346-B3E3-1B3B8AC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A53-1771-49E5-BE0C-FE082CA8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3FAF-6D1F-4465-BEA1-889A3E6E6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754380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289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1T19:55:17Z</dcterms:modified>
  <cp:revision>44</cp:revision>
  <dc:subject/>
  <dc:title>PowerPoint Presentation</dc:title>
</cp:coreProperties>
</file>